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53C-FC20-444F-8B90-F1A7A938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D8F-20A6-4F69-91CC-90530F0A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109-318D-41E7-A2F0-EAC07223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01A-E5A0-4ECF-8186-0D442B60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C46-5648-486A-B902-186E1B25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2E0-B656-4045-AF9B-20475C37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70B-AF73-46F0-A9B2-F628CB79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6CA-252F-400F-9A4D-BD602A6A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DAD-2573-4C57-9DA5-F490DA09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605-AC23-4710-98BD-83B3C2D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538-AA8C-4722-8DFF-A7360FE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2A7-BC27-4EA4-ACF6-1DA718AB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4661-0A44-4E11-8387-FDB6D7EC80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2-14T08:19:06Z</dcterms:modified>
  <cp:revision>813</cp:revision>
  <dc:subject/>
  <dc:title>Free PPT Backgrounds</dc:title>
</cp:coreProperties>
</file>